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808-D4DE-4630-8F02-27789375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E484-0BE7-4344-977E-8A009683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036-2B16-4305-BB12-D68A8A84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97C-AF53-47E7-A71B-8D26E26E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FA2-E9AF-43B7-9C47-525CD8B0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8128-089A-409F-A1FA-91F5AAA5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9C20-0C57-45DC-9F13-E9F7CAFD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555-1131-4B4C-93E7-FFB41156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136-C9FD-4B66-A755-154A2FC7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67A9-1E2B-41F7-8D31-2005EFAB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9AF-ACA8-41D7-BB0E-6AF261EE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3B7E-F153-4785-90A9-94CF54BC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1323-E0B2-4F37-A854-D671609696B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5092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موضوعاتها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رابط مستقيم 17"/>
          <p:cNvSpPr/>
          <p:nvPr/>
        </p:nvSpPr>
        <p:spPr>
          <a:xfrm flipH="1">
            <a:off x="4571640" y="3573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رابط مستقيم 18"/>
          <p:cNvSpPr/>
          <p:nvPr/>
        </p:nvSpPr>
        <p:spPr>
          <a:xfrm flipH="1">
            <a:off x="4566960" y="3830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19"/>
          <p:cNvCxnSpPr/>
          <p:nvPr/>
        </p:nvCxnSpPr>
        <p:spPr>
          <a:xfrm flipH="1">
            <a:off x="8456040" y="4581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4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ذكر الخلق بالبعث والجز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رابط مستقيم 31"/>
          <p:cNvSpPr/>
          <p:nvPr/>
        </p:nvSpPr>
        <p:spPr>
          <a:xfrm flipH="1">
            <a:off x="8817120" y="3824280"/>
            <a:ext cx="2880" cy="15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32"/>
          <p:cNvCxnSpPr/>
          <p:nvPr/>
        </p:nvCxnSpPr>
        <p:spPr>
          <a:xfrm flipH="1">
            <a:off x="8456040" y="41497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24000" y="395460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أنواع التوحيد الثلاث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قد تضمنت هذه السورة وهو سر عظم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عظي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فتتاح القرآن بها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179280" y="2492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مر بتكرارها في كل ركع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رابط كسهم مستقيم 15"/>
          <p:cNvCxnSpPr/>
          <p:nvPr/>
        </p:nvCxnSpPr>
        <p:spPr>
          <a:xfrm flipH="1">
            <a:off x="8458920" y="542304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عنوان 1"/>
          <p:cNvSpPr/>
          <p:nvPr/>
        </p:nvSpPr>
        <p:spPr>
          <a:xfrm>
            <a:off x="255600" y="5280120"/>
            <a:ext cx="820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حذير من سلوك طريق المغضوب عليهم والضال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21"/>
          <p:cNvCxnSpPr/>
          <p:nvPr/>
        </p:nvCxnSpPr>
        <p:spPr>
          <a:xfrm flipH="1">
            <a:off x="8458920" y="4990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326880" y="4797360"/>
            <a:ext cx="813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صراط المستقيم هو  الدين الذي لا يقبل الله سوا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1773360"/>
            <a:ext cx="8691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فضلها وأهميت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3206880" y="1125360"/>
            <a:ext cx="5664240" cy="5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25600" y="2481120"/>
            <a:ext cx="8367480" cy="94788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00160" y="3500280"/>
            <a:ext cx="869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ركن من أركان الصلاة لا تتم إلا ب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5"/>
          <a:stretch/>
        </p:blipFill>
        <p:spPr>
          <a:xfrm>
            <a:off x="4361040" y="4070520"/>
            <a:ext cx="4533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6"/>
          <a:stretch/>
        </p:blipFill>
        <p:spPr>
          <a:xfrm>
            <a:off x="4146480" y="5300640"/>
            <a:ext cx="472464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179280" y="4724280"/>
            <a:ext cx="869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حمد أول مذكور في السو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179280" y="5950080"/>
            <a:ext cx="8691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ليست من الفاتحة على القول الراج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632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4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7" name="عنوان 1"/>
          <p:cNvSpPr/>
          <p:nvPr/>
        </p:nvSpPr>
        <p:spPr>
          <a:xfrm>
            <a:off x="250920" y="1916280"/>
            <a:ext cx="8599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سورة من القرآن الكريم عدد آياتها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) وهي تقرأ في الصلاة وجوباً وهي شفاء لمن قرأ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1655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7160" y="2637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 أول سورة نزل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م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2716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بسملة في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ست من الفاتحة على القول الراج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27160" y="3789360"/>
            <a:ext cx="866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بسملة ليست من الفاتح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حديث القدسي :(قسمت الصلاة بيني وبين عبدي .. الحديث) فبدأ ب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50920" y="5699160"/>
            <a:ext cx="864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وعلى هذا القول من ترك البسملة في الصلاة فصلاته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: صحي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5840" y="4653000"/>
            <a:ext cx="4394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ردت عدة أحاديث تدل على فضل سورة الفاتحة وعظيم شأنها ومن ذلك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866592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8775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0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700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لسورة أسماء كثيرة من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7"/>
          <p:cNvSpPr/>
          <p:nvPr/>
        </p:nvSpPr>
        <p:spPr>
          <a:xfrm flipH="1">
            <a:off x="4571640" y="2060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8"/>
          <p:cNvSpPr/>
          <p:nvPr/>
        </p:nvSpPr>
        <p:spPr>
          <a:xfrm flipH="1">
            <a:off x="4566960" y="2317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19"/>
          <p:cNvCxnSpPr/>
          <p:nvPr/>
        </p:nvCxnSpPr>
        <p:spPr>
          <a:xfrm flipH="1">
            <a:off x="8456040" y="3068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9242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حمد) : لأن الحمد أول مذكور في السو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1"/>
          <p:cNvSpPr/>
          <p:nvPr/>
        </p:nvSpPr>
        <p:spPr>
          <a:xfrm flipH="1">
            <a:off x="8817120" y="2311560"/>
            <a:ext cx="2880" cy="7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2"/>
          <p:cNvCxnSpPr/>
          <p:nvPr/>
        </p:nvCxnSpPr>
        <p:spPr>
          <a:xfrm flipH="1">
            <a:off x="8456040" y="263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443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فاتحة) : لأنها فاتحة الكتاب وأول سورة ذكرت ف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